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761-250B-45EA-9D4D-16ECB80F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F8A-0C6C-45D5-AED0-BC4FFABF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FB2-BA59-414D-BE94-33181FB4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592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23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592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23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E51-0533-402D-B83C-49CDE241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255C-8F70-48B6-8D48-7BA87BDB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1906-A05C-4F77-86B9-33288C07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2479-B1B9-4BD0-BDC5-4A2990C6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2AAE-7F7B-46E6-9E27-8BD9E47E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1CCE-43EA-4150-A7DD-F1BCC5ED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15F1-08F0-46AF-8ECA-4E3A1237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ED41-1292-4B58-A3CF-58F562DB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3F1-CA4D-4F5C-9C85-0A0D65AC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C2B0-E79B-4EF9-9D89-45971379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DD3F-B280-4218-9608-DD1C6AB1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34DC-76EC-403D-BCE6-B5079E24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F218-1C34-4139-AFD9-80E2B141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5924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23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2952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5924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623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CC08-181F-4E1D-A818-3431B13A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38D-75BD-40D1-BEA5-F041516C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7C1-D634-4BF9-9222-EF0CCAB4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1CD-D46A-4DE4-A835-D2295104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610-6130-4D9A-8602-DA1D0E60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E74-9578-4D3A-8FE4-5BFB56EA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524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B65-F389-4419-A4FA-58F2BF77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524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34F-E55D-440C-AE8F-D2687093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603A-9038-4148-9336-0A7D652238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7154-9E82-4316-9261-783CA6A062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d1e7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5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35Z</dcterms:modified>
  <cp:revision>19</cp:revision>
  <dc:subject/>
  <dc:title>幻灯片 1</dc:title>
</cp:coreProperties>
</file>